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16.wmf" ContentType="image/x-wmf"/>
  <Override PartName="/ppt/media/image4.jpeg" ContentType="image/jpeg"/>
  <Override PartName="/ppt/media/image14.png" ContentType="image/png"/>
  <Override PartName="/ppt/media/image15.wmf" ContentType="image/x-wmf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A67E-0BFA-47B7-82FA-3C128A96A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20FE-C9BA-46DC-9EB2-7EA68C4F4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45C3-9CD2-4B55-8D05-6BC303CE4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37DF-4420-4E4E-953D-1AA8247A1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9DB5-26DD-40C1-8506-376FC892E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4DEB-6F0A-42E5-A1D1-7C49C1692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DD8A-DD59-451E-A306-EA83534E1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0891-D4FE-413C-9449-D98E274E2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A39E-99B5-4B85-BCC6-7A76B2733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B38A-8BF1-4066-B2B2-A8AAAAE54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DA52-71D5-4DA9-9E32-1F18B1FFD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4CC6-A016-470D-9A79-05ABA12D1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8E3BE-BEDE-4495-9C91-00CB4EFA9F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Product Analysi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920" y="3886200"/>
            <a:ext cx="7345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this range of Graphic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23640" y="260280"/>
            <a:ext cx="259236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Now choose one graphic product to analyse in detai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Use this criteria to help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987640" y="260280"/>
            <a:ext cx="5689800" cy="67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800000"/>
                </a:solidFill>
                <a:uFillTx/>
                <a:latin typeface="Arial"/>
              </a:rPr>
              <a:t>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0000"/>
                </a:solidFill>
                <a:latin typeface="Arial"/>
              </a:rPr>
              <a:t>What does the product have to do? What is it for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0000"/>
                </a:solidFill>
                <a:latin typeface="Arial"/>
              </a:rPr>
              <a:t>What is its primary function and secondary functio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0000"/>
                </a:solidFill>
                <a:latin typeface="Arial"/>
              </a:rPr>
              <a:t>Does it do the job it was designed for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Mar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ho is the customer? Who is the user? Are they the sam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hat are their needs likely to b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800000"/>
                </a:solidFill>
                <a:uFillTx/>
                <a:latin typeface="Arial"/>
              </a:rPr>
              <a:t>Ergonom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0000"/>
                </a:solidFill>
                <a:latin typeface="Arial"/>
              </a:rPr>
              <a:t>Is the product comfortable to us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Aesthe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s the product pleasing to look at?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re the colours and textures suitabl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s it well finishe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800000"/>
                </a:solidFill>
                <a:uFillTx/>
                <a:latin typeface="Arial"/>
              </a:rPr>
              <a:t>Qua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0000"/>
                </a:solidFill>
                <a:latin typeface="Arial"/>
              </a:rPr>
              <a:t>Could the quality of the design or the quality of the manufacture be improve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Materials and manufa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hat materials are being used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ow is it manufactured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hich production process is used: one-off, batch or mass productio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800000"/>
                </a:solidFill>
                <a:uFillTx/>
                <a:latin typeface="Arial"/>
              </a:rPr>
              <a:t>Co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0000"/>
                </a:solidFill>
                <a:latin typeface="Arial"/>
              </a:rPr>
              <a:t>How does the cost compare with similar product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Product life sp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ow long is the product expected to las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800000"/>
                </a:solidFill>
                <a:uFillTx/>
                <a:latin typeface="Arial"/>
              </a:rPr>
              <a:t>Safe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0000"/>
                </a:solidFill>
                <a:latin typeface="Arial"/>
              </a:rPr>
              <a:t>Is the product safe to us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0000"/>
                </a:solidFill>
                <a:latin typeface="Arial"/>
              </a:rPr>
              <a:t>Are there any sharp edges or loose parts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Environmental iss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oes the product harm the environmen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as any pollution caused during manufactur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7280" y="765000"/>
            <a:ext cx="470376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hat is the primary function of this product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What is the secondary function?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Describe the market that this product is aimed at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3359160" cy="5908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995640" y="476280"/>
            <a:ext cx="4653000" cy="6048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95280" y="907920"/>
            <a:ext cx="4897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10 points that may be included in the specification for this produ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are the ergonomic designs of this range of soft drinks container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427640" y="1700280"/>
            <a:ext cx="771480" cy="1428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476360" y="1413000"/>
            <a:ext cx="1714680" cy="2886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7524720" y="1484280"/>
            <a:ext cx="1276560" cy="3905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324000" y="4076640"/>
            <a:ext cx="1523880" cy="2381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5435640" y="3573360"/>
            <a:ext cx="1886040" cy="29718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3419640" y="3789360"/>
            <a:ext cx="1085760" cy="1838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88000" y="692280"/>
            <a:ext cx="3898800" cy="51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What does this poster tell you about the film?</a:t>
            </a:r>
            <a:br>
              <a:rPr sz="4000"/>
            </a:b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What is the most prominent feature of the poster? Why have the designers made this so promin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4187520" cy="6195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are the layout and content of these business cards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is your favourite and wh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9640" y="1989000"/>
            <a:ext cx="3514680" cy="2067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643280" y="1989000"/>
            <a:ext cx="3456000" cy="19749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4932360" y="4149720"/>
            <a:ext cx="3527280" cy="20145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900000" y="4149720"/>
            <a:ext cx="3527640" cy="2013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4920" y="5229360"/>
            <a:ext cx="814716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The following two slides show a detailed analysis of the board game, ‘Monopoly’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19080"/>
            <a:ext cx="8893080" cy="6640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5T11:10:00Z</dcterms:created>
  <dc:creator>hilliers</dc:creator>
  <dc:description/>
  <dc:language>en-US</dc:language>
  <cp:lastModifiedBy>hilliers</cp:lastModifiedBy>
  <dcterms:modified xsi:type="dcterms:W3CDTF">2006-11-30T09:07:53Z</dcterms:modified>
  <cp:revision>10</cp:revision>
  <dc:subject/>
  <dc:title>Product Analysis</dc:title>
</cp:coreProperties>
</file>